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4BA-353C-430F-9449-977ADF63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48A-93EB-4A3A-8DEC-727D8A96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2BF-B8E6-42EE-BEF0-22A808B9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8E0-B12F-4B43-9F37-AF1CDF9A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A893-3047-4511-BF81-836D228D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695-D054-410E-AD9C-D2C77687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1F9-4029-4A32-9BEF-D5D1BBB0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20B-77B8-40D8-8CAB-BD3F2DED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A72-AD55-49CE-8451-7872D9AF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F06-53C8-42AD-A56E-AC9A098E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124-DB19-42A9-98AF-F6A20E79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E34-E680-4EDC-BB88-70D6DE16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6B2B-83AE-425F-B0E1-26D2BB90B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404640"/>
            <a:ext cx="36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imer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3640" y="620640"/>
            <a:ext cx="36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gun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9640" y="4149720"/>
            <a:ext cx="36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ercer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148360" y="4149720"/>
            <a:ext cx="3600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ar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404640"/>
            <a:ext cx="36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i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640" y="3933720"/>
            <a:ext cx="36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x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32360" y="620640"/>
            <a:ext cx="3600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éptim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932360" y="3933720"/>
            <a:ext cx="3600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ctav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9640" y="404640"/>
            <a:ext cx="36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ve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3640" y="620640"/>
            <a:ext cx="36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écim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3429000"/>
            <a:ext cx="89247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° 2° 3° 4° 5°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° 7° 8° 9° 10°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5:35:46Z</dcterms:created>
  <dc:creator>Usuario</dc:creator>
  <dc:description/>
  <dc:language>en-US</dc:language>
  <cp:lastModifiedBy>Usuario</cp:lastModifiedBy>
  <dcterms:modified xsi:type="dcterms:W3CDTF">2008-01-28T15:51:13Z</dcterms:modified>
  <cp:revision>2</cp:revision>
  <dc:subject/>
  <dc:title>Diapositiva 1</dc:title>
</cp:coreProperties>
</file>